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A8C-3427-4238-8D01-E710560A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C6F-D1F1-4972-B50E-A60F76FC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A4C-1A4F-4EEC-9D7C-19103901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487-45A5-4E5B-A4CB-7A0E8B01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EE6-2658-4AEF-ACE4-E829FB98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8F9-16FC-4356-BF66-35A03873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7A3-A9D8-4E27-9423-8BEA62DC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BD9-A07E-4A8F-8BB5-54617E2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22A-492E-400C-A333-39372F96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F00-5517-4E16-92B5-D308E86F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992-D311-48AB-A329-B8D5057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6D1-FB93-4437-AF70-575B3331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23DC-4C8B-4CD0-95FD-0BB443762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amounts of the elements in a compound = perc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lculating % mass of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%251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7607160" cy="131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3886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practice problem 10.9 (pg 306) and do practice problems 32 and 33 in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lculating  % composition from a chemical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%25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7740360" cy="1536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2438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practice problem 10.10 (page 307) and do problem 34 a and b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o not forget to figure out the mass of each atom in the compound to get the total molar m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657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formula:  lowest whole number ratio of the atoms of the elements in a comp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495680"/>
            <a:ext cx="7620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Hydrogen Peroxide – molecular formula =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pirical formula = HO because the smallest whole number ration is 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termining empirical formula of a 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7621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25.9% nitrogen and 74.1% 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m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3:51:01Z</dcterms:created>
  <dc:creator>jpak</dc:creator>
  <dc:description/>
  <dc:language>en-US</dc:language>
  <cp:lastModifiedBy>Farwell Area Schools</cp:lastModifiedBy>
  <dcterms:modified xsi:type="dcterms:W3CDTF">2008-11-12T14:21:20Z</dcterms:modified>
  <cp:revision>6</cp:revision>
  <dc:subject/>
  <dc:title>Note Guide 6.3</dc:title>
</cp:coreProperties>
</file>